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9E6D21-6403-4223-9B62-77732B8AB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4B2F2-559B-467D-A1D2-F2BCB6D31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1CDD26-3CA6-4BDE-A729-6AAB6AFCEA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CA74FC-8758-417A-9E4C-04754143E5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F73396-336E-4AB2-836B-51D9482D7E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32FD82-A5EB-4B9D-80D2-EF9B5E8B70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93F9F2-00BC-4358-9CB7-220494AAD5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F6624B-8803-434A-BEF2-AC3464998F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6E3A35-4C18-4EB4-A732-237AE87879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05A6DC-38AD-4416-90E4-71AB6FB7F2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62D51-7E7A-4431-BCE7-4EB2E492C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10CAE-108F-46A5-945B-E09BC7CD7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91923-674F-4654-B0F6-63E1586959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D121FD-2314-4608-8E24-CD7D4E4D3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EE8FE9-7D82-4F1F-8BB6-90B175CD08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3AF087-E96D-4018-BA1F-37D66ED668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F4097E-6657-4251-BB5A-FCFAF73E4B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6F70A-3998-4E96-B5FA-9C4E2012C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2D0E0-472A-469E-9D2B-82D1487E4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9075D-7E88-49F4-A2A7-04F2F8E07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AB541-D6C0-438E-8AD5-B78BE62AF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C44E9-1D62-4637-A05E-DB202BCA7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CDD61-5246-4A3B-944C-5B0A083A0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253C1-58FD-4117-8E0B-A8417423D3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E092F-8F80-4061-A302-61C12790E5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45E2E-0AE4-4D70-B8BC-DD98D5707D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summerworks.files.wordpress.com/2008/07/ovid4801.jpg&amp;imgrefurl=http://summerworks.wordpress.com/2008/07/12/if-we-were-birds-by-erin-shields/&amp;usg=__OClRjzz7SryDHkCY4O7tGQ67JDg=&amp;h=300&amp;w=460&amp;sz=42&amp;hl=en&amp;start=2&amp;um=1&amp;itbs=1&amp;tbnid=le5Nk3DzJfmMdM:&amp;tbnh=83&amp;tbnw=128&amp;prev=/images%3Fq%3Dovid%26um%3D1%26hl%3Den%26safe%3Dactive%26sa%3DN%26tbs%3Disch:1" TargetMode="External"/><Relationship Id="rId2" Type="http://schemas.openxmlformats.org/officeDocument/2006/relationships/image" Target="../media/image1.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www.bookrags.com/notes/met/CHR.htm#Slide 72"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bookrags.com/notes/met/OBJ.htm#Slide 200"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jwwaterhouse.com/paintings/images/waterhouse_thisbe.jpg&amp;imgrefurl=http://www.jwwaterhouse.com/view.cfm%3Frecordid%3D57&amp;usg=__ON4ZK08CSt4cvPsO-giheP8z9lY=&amp;h=795&amp;w=448&amp;sz=105&amp;hl=en&amp;start=8&amp;um=1&amp;itbs=1&amp;tbnid=xd2omJxgTK28iM:&amp;tbnh=143&amp;tbnw=81&amp;prev=/images%3Fq%3Dpyramus%2Band%2Bthisbe%26um%3D1%26hl%3Den%26safe%3Dactive%26sa%3DN%26tbs%3Disch:1" TargetMode="External"/><Relationship Id="rId2" Type="http://schemas.openxmlformats.org/officeDocument/2006/relationships/image" Target="../media/image2.jpeg"/><Relationship Id="rId3" Type="http://schemas.openxmlformats.org/officeDocument/2006/relationships/hyperlink" Target="http://images.google.com/imgres?imgurl=http://www.franklin.ma.us/auto/upload/schools/fhs/472-pyramus-%26-thisbe.jpg&amp;imgrefurl=http://www.franklin.ma.us/auto/schools/fhs/depts/latin/periodE/default.htm&amp;usg=__4ss6Ej29HwhtniCZ6lZwCl_cO7Y=&amp;h=473&amp;w=550&amp;sz=64&amp;hl=en&amp;start=5&amp;um=1&amp;itbs=1&amp;tbnid=Jjf5d8DlLXAz1M:&amp;tbnh=114&amp;tbnw=133&amp;prev=/images%3Fq%3Dpyramus%2Band%2Bthisbe%26um%3D1%26hl%3Den%26safe%3Dactive%26sa%3DN%26tbs%3Disch:1" TargetMode="External"/><Relationship Id="rId4" Type="http://schemas.openxmlformats.org/officeDocument/2006/relationships/image" Target="../media/image3.jpeg"/><Relationship Id="rId5" Type="http://schemas.openxmlformats.org/officeDocument/2006/relationships/hyperlink" Target="http://images.google.com/imgres?imgurl=http://www.1st-art-gallery.com/thumbnail/99548/1/Pyramus-And-Thisbe.jpg&amp;imgrefurl=http://www.1st-art-gallery.com/Gregorio-Pagani/Pyramus-And-Thisbe.html&amp;usg=__cRCpkyMYW77LoACmY-8O7P3zf54=&amp;h=600&amp;w=469&amp;sz=111&amp;hl=en&amp;start=46&amp;um=1&amp;itbs=1&amp;tbnid=yq4WBC12378vYM:&amp;tbnh=135&amp;tbnw=106&amp;prev=/images%3Fq%3Dpyramus%2Band%2Bthisbe%26start%3D40%26um%3D1%26hl%3Den%26safe%3Dactive%26sa%3DN%26ndsp%3D20%26tbs%3Disch:1" TargetMode="External"/><Relationship Id="rId6" Type="http://schemas.openxmlformats.org/officeDocument/2006/relationships/image" Target="../media/image4.jpe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50000">
              <a:srgbClr val="993300"/>
            </a:gs>
            <a:gs pos="100000">
              <a:srgbClr val="4617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1" lang="en-US" sz="5400" spc="-1" strike="noStrike">
              <a:solidFill>
                <a:srgbClr val="feec94"/>
              </a:solidFill>
              <a:latin typeface="Times New Roman"/>
            </a:endParaRPr>
          </a:p>
        </p:txBody>
      </p:sp>
      <p:pic>
        <p:nvPicPr>
          <p:cNvPr id="121" name="" descr="">
            <a:hlinkClick r:id="rId1"/>
          </p:cNvPr>
          <p:cNvPicPr/>
          <p:nvPr/>
        </p:nvPicPr>
        <p:blipFill>
          <a:blip r:embed="rId2">
            <a:lum contrast="26000"/>
          </a:blip>
          <a:stretch/>
        </p:blipFill>
        <p:spPr>
          <a:xfrm>
            <a:off x="2362320" y="4038480"/>
            <a:ext cx="3657600" cy="2467080"/>
          </a:xfrm>
          <a:prstGeom prst="rect">
            <a:avLst/>
          </a:prstGeom>
          <a:ln w="9360">
            <a:solidFill>
              <a:srgbClr val="ff9900"/>
            </a:solidFill>
            <a:miter/>
          </a:ln>
        </p:spPr>
      </p:pic>
      <p:sp>
        <p:nvSpPr>
          <p:cNvPr id="122" name=""/>
          <p:cNvSpPr txBox="1"/>
          <p:nvPr/>
        </p:nvSpPr>
        <p:spPr>
          <a:xfrm>
            <a:off x="3581280" y="3276720"/>
            <a:ext cx="1447920" cy="304560"/>
          </a:xfrm>
          <a:prstGeom prst="rect">
            <a:avLst/>
          </a:prstGeom>
        </p:spPr>
        <p:txBody>
          <a:bodyPr wrap="none" lIns="90000" rIns="90000" tIns="46800" bIns="46800" anchor="t" anchorCtr="1">
            <a:prstTxWarp prst="textPlain">
              <a:avLst>
                <a:gd name="adj" fmla="val 503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eec94"/>
                </a:solidFill>
                <a:latin typeface="comic"/>
              </a:rPr>
              <a:t>OVID</a:t>
            </a:r>
            <a:endParaRPr b="0" lang="en-US" sz="1800" spc="1" strike="noStrike">
              <a:ln w="9360">
                <a:solidFill>
                  <a:srgbClr val="ffffff"/>
                </a:solidFill>
                <a:miter/>
              </a:ln>
              <a:solidFill>
                <a:srgbClr val="feec94"/>
              </a:solidFill>
              <a:latin typeface="comic"/>
              <a:ea typeface="comic"/>
            </a:endParaRPr>
          </a:p>
        </p:txBody>
      </p:sp>
      <p:sp>
        <p:nvSpPr>
          <p:cNvPr id="123" name=""/>
          <p:cNvSpPr txBox="1"/>
          <p:nvPr/>
        </p:nvSpPr>
        <p:spPr>
          <a:xfrm>
            <a:off x="1828800" y="609480"/>
            <a:ext cx="51055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eec94"/>
                </a:solidFill>
                <a:latin typeface="comic"/>
              </a:rPr>
              <a:t>Pyramus And </a:t>
            </a:r>
            <a:endParaRPr b="0" lang="en-US" sz="4000" spc="1" strike="noStrike">
              <a:ln w="9360">
                <a:solidFill>
                  <a:srgbClr val="000000"/>
                </a:solidFill>
                <a:miter/>
              </a:ln>
              <a:solidFill>
                <a:srgbClr val="feec94"/>
              </a:solidFill>
              <a:latin typeface="comic"/>
              <a:ea typeface="com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eec94"/>
                </a:solidFill>
                <a:latin typeface="comic"/>
              </a:rPr>
              <a:t>thisbe</a:t>
            </a:r>
            <a:endParaRPr b="0" lang="en-US" sz="4000" spc="1" strike="noStrike">
              <a:ln w="9360">
                <a:solidFill>
                  <a:srgbClr val="000000"/>
                </a:solidFill>
                <a:miter/>
              </a:ln>
              <a:solidFill>
                <a:srgbClr val="feec94"/>
              </a:solidFill>
              <a:latin typeface="comic"/>
              <a:ea typeface="comic"/>
            </a:endParaRPr>
          </a:p>
        </p:txBody>
      </p:sp>
      <p:sp>
        <p:nvSpPr>
          <p:cNvPr id="124" name=""/>
          <p:cNvSpPr txBox="1"/>
          <p:nvPr/>
        </p:nvSpPr>
        <p:spPr>
          <a:xfrm>
            <a:off x="3809880" y="2971800"/>
            <a:ext cx="98136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eec94"/>
                </a:solidFill>
                <a:latin typeface="comic"/>
              </a:rPr>
              <a:t>Author</a:t>
            </a:r>
            <a:endParaRPr b="0" lang="en-US" sz="2000" spc="1" strike="noStrike">
              <a:ln w="9360">
                <a:solidFill>
                  <a:srgbClr val="000000"/>
                </a:solidFill>
                <a:miter/>
              </a:ln>
              <a:solidFill>
                <a:srgbClr val="feec94"/>
              </a:solidFill>
              <a:latin typeface="comic"/>
              <a:ea typeface="comic"/>
            </a:endParaRPr>
          </a:p>
        </p:txBody>
      </p:sp>
      <p:sp>
        <p:nvSpPr>
          <p:cNvPr id="125" name=""/>
          <p:cNvSpPr/>
          <p:nvPr/>
        </p:nvSpPr>
        <p:spPr>
          <a:xfrm>
            <a:off x="6019920" y="1932480"/>
            <a:ext cx="312408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vid (Publius Ovidius Naso) , 43 BC-AD 18, Latin poet, b. Sulmo (present-day Sulmona), in the Apennines</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8">
                                  <p:stCondLst>
                                    <p:cond delay="0"/>
                                  </p:stCondLst>
                                  <p:childTnLst>
                                    <p:set>
                                      <p:cBhvr>
                                        <p:cTn id="6" dur="1" fill="hold">
                                          <p:stCondLst>
                                            <p:cond delay="0"/>
                                          </p:stCondLst>
                                        </p:cTn>
                                        <p:tgtEl>
                                          <p:spTgt spid="120"/>
                                        </p:tgtEl>
                                        <p:attrNameLst>
                                          <p:attrName>style.visibility</p:attrName>
                                        </p:attrNameLst>
                                      </p:cBhvr>
                                      <p:to>
                                        <p:strVal val="visible"/>
                                      </p:to>
                                    </p:set>
                                    <p:anim calcmode="lin" valueType="num">
                                      <p:cBhvr additive="repl">
                                        <p:cTn id="7" dur="15000" fill="hold"/>
                                        <p:tgtEl>
                                          <p:spTgt spid="120"/>
                                        </p:tgtEl>
                                        <p:attrNameLst>
                                          <p:attrName>ppt_x</p:attrName>
                                        </p:attrNameLst>
                                      </p:cBhvr>
                                      <p:tavLst>
                                        <p:tav tm="0">
                                          <p:val>
                                            <p:strVal val="#ppt_x"/>
                                          </p:val>
                                        </p:tav>
                                        <p:tav tm="100000">
                                          <p:val>
                                            <p:strVal val="#ppt_x"/>
                                          </p:val>
                                        </p:tav>
                                      </p:tavLst>
                                    </p:anim>
                                    <p:anim calcmode="lin" valueType="num">
                                      <p:cBhvr additive="repl">
                                        <p:cTn id="8" dur="15000" fill="hold"/>
                                        <p:tgtEl>
                                          <p:spTgt spid="120"/>
                                        </p:tgtEl>
                                        <p:attrNameLst>
                                          <p:attrName>ppt_y</p:attrName>
                                        </p:attrNameLst>
                                      </p:cBhvr>
                                      <p:tavLst>
                                        <p:tav tm="0">
                                          <p:val>
                                            <p:strVal val="#ppt_y+1"/>
                                          </p:val>
                                        </p:tav>
                                        <p:tav tm="100000">
                                          <p:val>
                                            <p:strVal val="#ppt_y-1"/>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55">
                                  <p:stCondLst>
                                    <p:cond delay="0"/>
                                  </p:stCondLst>
                                  <p:childTnLst>
                                    <p:set>
                                      <p:cBhvr>
                                        <p:cTn id="12" dur="1" fill="hold">
                                          <p:stCondLst>
                                            <p:cond delay="0"/>
                                          </p:stCondLst>
                                        </p:cTn>
                                        <p:tgtEl>
                                          <p:spTgt spid="123"/>
                                        </p:tgtEl>
                                        <p:attrNameLst>
                                          <p:attrName>style.visibility</p:attrName>
                                        </p:attrNameLst>
                                      </p:cBhvr>
                                      <p:to>
                                        <p:strVal val="visible"/>
                                      </p:to>
                                    </p:set>
                                    <p:anim calcmode="lin" valueType="num">
                                      <p:cBhvr additive="repl">
                                        <p:cTn id="13" dur="1000" fill="hold"/>
                                        <p:tgtEl>
                                          <p:spTgt spid="123"/>
                                        </p:tgtEl>
                                        <p:attrNameLst>
                                          <p:attrName>ppt_w</p:attrName>
                                        </p:attrNameLst>
                                      </p:cBhvr>
                                      <p:tavLst>
                                        <p:tav tm="0">
                                          <p:val>
                                            <p:strVal val="#ppt_w*0.70"/>
                                          </p:val>
                                        </p:tav>
                                        <p:tav tm="100000">
                                          <p:val>
                                            <p:strVal val="#ppt_w"/>
                                          </p:val>
                                        </p:tav>
                                      </p:tavLst>
                                    </p:anim>
                                    <p:anim calcmode="lin" valueType="num">
                                      <p:cBhvr additive="repl">
                                        <p:cTn id="14" dur="1000" fill="hold"/>
                                        <p:tgtEl>
                                          <p:spTgt spid="123"/>
                                        </p:tgtEl>
                                        <p:attrNameLst>
                                          <p:attrName>ppt_h</p:attrName>
                                        </p:attrNameLst>
                                      </p:cBhvr>
                                      <p:tavLst>
                                        <p:tav tm="0">
                                          <p:val>
                                            <p:strVal val="#ppt_h"/>
                                          </p:val>
                                        </p:tav>
                                        <p:tav tm="100000">
                                          <p:val>
                                            <p:strVal val="#ppt_h"/>
                                          </p:val>
                                        </p:tav>
                                      </p:tavLst>
                                    </p:anim>
                                    <p:animEffect filter="fade" transition="in">
                                      <p:cBhvr additive="repl">
                                        <p:cTn id="15"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eec94"/>
                </a:solidFill>
                <a:uFillTx/>
                <a:latin typeface="Times New Roman"/>
              </a:rPr>
              <a:t>Short Summary</a:t>
            </a:r>
            <a:endParaRPr b="1" lang="en-US" sz="4400" spc="-1" strike="noStrike">
              <a:solidFill>
                <a:srgbClr val="feec94"/>
              </a:solidFill>
              <a:latin typeface="Times New Roman"/>
            </a:endParaRPr>
          </a:p>
        </p:txBody>
      </p:sp>
      <p:sp>
        <p:nvSpPr>
          <p:cNvPr id="127" name="PlaceHolder 2"/>
          <p:cNvSpPr>
            <a:spLocks noGrp="1"/>
          </p:cNvSpPr>
          <p:nvPr>
            <p:ph/>
          </p:nvPr>
        </p:nvSpPr>
        <p:spPr>
          <a:xfrm>
            <a:off x="457200" y="838080"/>
            <a:ext cx="8229600" cy="4530960"/>
          </a:xfrm>
          <a:prstGeom prst="rect">
            <a:avLst/>
          </a:prstGeom>
          <a:noFill/>
          <a:ln w="0">
            <a:noFill/>
          </a:ln>
        </p:spPr>
        <p:txBody>
          <a:bodyPr lIns="90000" rIns="90000" tIns="46800" bIns="46800" anchor="t">
            <a:normAutofit fontScale="86000"/>
          </a:bodyPr>
          <a:p>
            <a:pPr marL="294840" indent="-29484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hlinkClick r:id="rId1"/>
              </a:rPr>
              <a:t>Pyramus and Thisbe</a:t>
            </a:r>
            <a:r>
              <a:rPr b="1" i="1" lang="en-US" sz="2800" spc="-1" strike="noStrike">
                <a:solidFill>
                  <a:srgbClr val="ffffff"/>
                </a:solidFill>
                <a:latin typeface="Times New Roman"/>
              </a:rPr>
              <a:t> were neighbors in ancient Babylon, and their homes were separated by a large, brick wall. Although they loved one another, they could not marry because of a disagreement between their fathers, and so they talked with each other through a narrow chink in the wall. They decided to meet one night at Ninus' tomb in the woods outside Babylon. While Thisbe waited for her lover, a lioness came to the nearby stream, and it frightened Thisbe away. When she fled, she dropped her shawl and the lioness ripped it with her bloody jaws and then left the stream. </a:t>
            </a:r>
            <a:endParaRPr b="0" lang="en-US" sz="2800" spc="-1" strike="noStrike">
              <a:solidFill>
                <a:srgbClr val="ffffff"/>
              </a:solidFill>
              <a:latin typeface="Times New Roman"/>
            </a:endParaRPr>
          </a:p>
          <a:p>
            <a:pPr marL="294840" indent="-29484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9 Mar ,2010.Online Internet.</a:t>
            </a:r>
            <a:r>
              <a:rPr b="0" lang="en-US" sz="3200" spc="-1" strike="noStrike">
                <a:solidFill>
                  <a:srgbClr val="ffffff"/>
                </a:solidFill>
                <a:latin typeface="Times New Roman"/>
              </a:rPr>
              <a:t> </a:t>
            </a:r>
            <a:r>
              <a:rPr b="0" lang="en-US" sz="2000" spc="-1" strike="noStrike">
                <a:solidFill>
                  <a:srgbClr val="ffffff"/>
                </a:solidFill>
                <a:latin typeface="Times New Roman"/>
              </a:rPr>
              <a:t>&lt;http://www.bookrags.com/notes/met/PART21.htm&gt;</a:t>
            </a:r>
            <a:endParaRPr b="0" lang="en-US" sz="2000" spc="-1" strike="noStrike">
              <a:solidFill>
                <a:srgbClr val="ffffff"/>
              </a:solidFill>
              <a:latin typeface="Times New Roman"/>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6840" y="228240"/>
            <a:ext cx="8458200" cy="6435720"/>
          </a:xfrm>
          <a:prstGeom prst="rect">
            <a:avLst/>
          </a:prstGeom>
          <a:noFill/>
          <a:ln w="0">
            <a:noFill/>
          </a:ln>
        </p:spPr>
        <p:txBody>
          <a:bodyPr lIns="90000" rIns="90000" tIns="46800" bIns="46800" anchor="t">
            <a:normAutofit/>
          </a:bodyPr>
          <a:p>
            <a:pPr marL="343080" indent="-343080">
              <a:lnSpc>
                <a:spcPct val="9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Pyramus came to Ninus' tomb and found his love's ripped, bloody shawl and assumed that she'd been killed by a lion. He killed himself with his sword to be with his love. Thisbe soon returned and found Pyramus slain there, and so she killed herself as well. Their blood changed the color of the </a:t>
            </a:r>
            <a:r>
              <a:rPr b="0" i="1" lang="en-US" sz="3600" spc="-1" strike="noStrike" u="sng">
                <a:solidFill>
                  <a:srgbClr val="ffffcc"/>
                </a:solidFill>
                <a:uFillTx/>
                <a:latin typeface="Times New Roman"/>
                <a:hlinkClick r:id="rId1"/>
              </a:rPr>
              <a:t>mulberry tree</a:t>
            </a:r>
            <a:r>
              <a:rPr b="1" i="1" lang="en-US" sz="3600" spc="-1" strike="noStrike">
                <a:solidFill>
                  <a:srgbClr val="ffffff"/>
                </a:solidFill>
                <a:latin typeface="Times New Roman"/>
              </a:rPr>
              <a:t> under which they lay. The berries changed from white to burgundy from the lovers' blood.</a:t>
            </a:r>
            <a:r>
              <a:rPr b="0"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 Mar ,2010.Online Internet. &lt;http://www.bookrags.com/notes/met/PART21.htm&gt;</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
          <p:cNvSpPr/>
          <p:nvPr/>
        </p:nvSpPr>
        <p:spPr>
          <a:xfrm>
            <a:off x="5791320" y="3809880"/>
            <a:ext cx="2514600" cy="22100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457200" y="3809880"/>
            <a:ext cx="1981080" cy="25909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3276720" y="3048120"/>
            <a:ext cx="1828800" cy="32004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eec94"/>
                </a:solidFill>
                <a:uFillTx/>
                <a:latin typeface="Times New Roman"/>
              </a:rPr>
              <a:t>Theme</a:t>
            </a:r>
            <a:endParaRPr b="1" lang="en-US" sz="4400" spc="-1" strike="noStrike">
              <a:solidFill>
                <a:srgbClr val="feec94"/>
              </a:solidFill>
              <a:latin typeface="Times New Roman"/>
            </a:endParaRPr>
          </a:p>
        </p:txBody>
      </p:sp>
      <p:sp>
        <p:nvSpPr>
          <p:cNvPr id="133" name="PlaceHolder 2"/>
          <p:cNvSpPr>
            <a:spLocks noGrp="1"/>
          </p:cNvSpPr>
          <p:nvPr>
            <p:ph/>
          </p:nvPr>
        </p:nvSpPr>
        <p:spPr>
          <a:xfrm>
            <a:off x="228600" y="1218960"/>
            <a:ext cx="86868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You can’t keep lovers apart from each other</a:t>
            </a:r>
            <a:r>
              <a:rPr b="0" lang="en-US" sz="4000" spc="-1" strike="noStrike">
                <a:solidFill>
                  <a:srgbClr val="ffffff"/>
                </a:solidFill>
                <a:latin typeface="Times New Roman"/>
              </a:rPr>
              <a:t> . </a:t>
            </a:r>
            <a:r>
              <a:rPr b="0" lang="en-US" sz="3200" spc="-1" strike="noStrike">
                <a:solidFill>
                  <a:srgbClr val="ffffff"/>
                </a:solidFill>
                <a:latin typeface="Times New Roman"/>
              </a:rPr>
              <a:t>The love between Pyramus and Thisbe is so strong that they defy the will of their parents and run away. </a:t>
            </a:r>
            <a:endParaRPr b="0" lang="en-US" sz="3200" spc="-1" strike="noStrike">
              <a:solidFill>
                <a:srgbClr val="ffffff"/>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pic>
        <p:nvPicPr>
          <p:cNvPr id="134" name="" descr="">
            <a:hlinkClick r:id="rId1"/>
          </p:cNvPr>
          <p:cNvPicPr/>
          <p:nvPr/>
        </p:nvPicPr>
        <p:blipFill>
          <a:blip r:embed="rId2"/>
          <a:stretch/>
        </p:blipFill>
        <p:spPr>
          <a:xfrm>
            <a:off x="3200400" y="2971800"/>
            <a:ext cx="1809720" cy="3195720"/>
          </a:xfrm>
          <a:prstGeom prst="rect">
            <a:avLst/>
          </a:prstGeom>
          <a:ln w="9360">
            <a:solidFill>
              <a:srgbClr val="ff9900"/>
            </a:solidFill>
            <a:miter/>
          </a:ln>
        </p:spPr>
      </p:pic>
      <p:pic>
        <p:nvPicPr>
          <p:cNvPr id="135" name="" descr="">
            <a:hlinkClick r:id="rId3"/>
          </p:cNvPr>
          <p:cNvPicPr/>
          <p:nvPr/>
        </p:nvPicPr>
        <p:blipFill>
          <a:blip r:embed="rId4"/>
          <a:stretch/>
        </p:blipFill>
        <p:spPr>
          <a:xfrm>
            <a:off x="5867280" y="3733920"/>
            <a:ext cx="2562480" cy="2195280"/>
          </a:xfrm>
          <a:prstGeom prst="rect">
            <a:avLst/>
          </a:prstGeom>
          <a:ln w="9360">
            <a:solidFill>
              <a:srgbClr val="ff9900"/>
            </a:solidFill>
            <a:miter/>
          </a:ln>
        </p:spPr>
      </p:pic>
      <p:pic>
        <p:nvPicPr>
          <p:cNvPr id="136" name="" descr="">
            <a:hlinkClick r:id="rId5"/>
          </p:cNvPr>
          <p:cNvPicPr/>
          <p:nvPr/>
        </p:nvPicPr>
        <p:blipFill>
          <a:blip r:embed="rId6"/>
          <a:stretch/>
        </p:blipFill>
        <p:spPr>
          <a:xfrm>
            <a:off x="533520" y="3733920"/>
            <a:ext cx="2000160" cy="2547720"/>
          </a:xfrm>
          <a:prstGeom prst="rect">
            <a:avLst/>
          </a:prstGeom>
          <a:ln w="9360">
            <a:solidFill>
              <a:srgbClr val="ff9900"/>
            </a:solidFill>
            <a:miter/>
          </a:ln>
        </p:spPr>
      </p:pic>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haracters</a:t>
            </a:r>
            <a:endParaRPr b="1" lang="en-US" sz="4400" spc="-1" strike="noStrike">
              <a:solidFill>
                <a:srgbClr val="feec94"/>
              </a:solidFill>
              <a:latin typeface="Times New Roman"/>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yramus</a:t>
            </a:r>
            <a:r>
              <a:rPr b="0" lang="en-US" sz="2000" spc="-1" strike="noStrike">
                <a:solidFill>
                  <a:srgbClr val="ffffff"/>
                </a:solidFill>
                <a:latin typeface="Times New Roman"/>
              </a:rPr>
              <a:t>: Handsome youth of Babylon who falls in love with his neighbor, Thisbe. </a:t>
            </a:r>
            <a:br>
              <a:rPr sz="2000"/>
            </a:br>
            <a:r>
              <a:rPr b="1" lang="en-US" sz="2000" spc="-1" strike="noStrike">
                <a:solidFill>
                  <a:srgbClr val="ffffff"/>
                </a:solidFill>
                <a:latin typeface="Times New Roman"/>
              </a:rPr>
              <a:t>Thisbe</a:t>
            </a:r>
            <a:r>
              <a:rPr b="0" lang="en-US" sz="2000" spc="-1" strike="noStrike">
                <a:solidFill>
                  <a:srgbClr val="ffffff"/>
                </a:solidFill>
                <a:latin typeface="Times New Roman"/>
              </a:rPr>
              <a:t>: Beautiful young girl of Babylon who returns Pyramus's love. </a:t>
            </a:r>
            <a:br>
              <a:rPr sz="2000"/>
            </a:br>
            <a:r>
              <a:rPr b="1" lang="en-US" sz="2000" spc="-1" strike="noStrike">
                <a:solidFill>
                  <a:srgbClr val="ffffff"/>
                </a:solidFill>
                <a:latin typeface="Times New Roman"/>
              </a:rPr>
              <a:t>Parents of Pyramus and Thisbe</a:t>
            </a:r>
            <a:r>
              <a:rPr b="0" lang="en-US" sz="2000" spc="-1" strike="noStrike">
                <a:solidFill>
                  <a:srgbClr val="ffffff"/>
                </a:solidFill>
                <a:latin typeface="Times New Roman"/>
              </a:rPr>
              <a:t>: They oppose a relationship between Pyramus and Thisbe for reasons not explained in the story. The parents play no active role in the story. </a:t>
            </a:r>
            <a:br>
              <a:rPr sz="2000"/>
            </a:br>
            <a:r>
              <a:rPr b="1" lang="en-US" sz="2000" spc="-1" strike="noStrike">
                <a:solidFill>
                  <a:srgbClr val="ffffff"/>
                </a:solidFill>
                <a:latin typeface="Times New Roman"/>
              </a:rPr>
              <a:t>Semiramis</a:t>
            </a:r>
            <a:r>
              <a:rPr b="0" lang="en-US" sz="2000" spc="-1" strike="noStrike">
                <a:solidFill>
                  <a:srgbClr val="ffffff"/>
                </a:solidFill>
                <a:latin typeface="Times New Roman"/>
              </a:rPr>
              <a:t>: Queen of Babylon and the subject of myths and legends. After the death of her husband, Ninus, she ruled Babylon for many years. Semiramis is the Greek name for Sammu-ramat. Semiramis plays no active role in the story. </a:t>
            </a:r>
            <a:br>
              <a:rPr sz="2000"/>
            </a:br>
            <a:r>
              <a:rPr b="1" lang="en-US" sz="2000" spc="-1" strike="noStrike">
                <a:solidFill>
                  <a:srgbClr val="ffffff"/>
                </a:solidFill>
                <a:latin typeface="Times New Roman"/>
              </a:rPr>
              <a:t>Ninus</a:t>
            </a:r>
            <a:r>
              <a:rPr b="0" lang="en-US" sz="2000" spc="-1" strike="noStrike">
                <a:solidFill>
                  <a:srgbClr val="ffffff"/>
                </a:solidFill>
                <a:latin typeface="Times New Roman"/>
              </a:rPr>
              <a:t>: King of Assyria and late husband of Semiramis. He plays no active role in the story. However, it is at his tomb that Pyramus and Thisbe meet after running away.</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1600" spc="-1" strike="noStrike">
                <a:solidFill>
                  <a:srgbClr val="ffffff"/>
                </a:solidFill>
                <a:latin typeface="Times New Roman"/>
              </a:rPr>
              <a:t>9 Mar ,2010.Online Internet.</a:t>
            </a:r>
            <a:r>
              <a:rPr b="0" lang="en-US" sz="2400" spc="-1" strike="noStrike">
                <a:solidFill>
                  <a:srgbClr val="ffffff"/>
                </a:solidFill>
                <a:latin typeface="Times New Roman"/>
              </a:rPr>
              <a:t> &lt;</a:t>
            </a:r>
            <a:r>
              <a:rPr b="0" lang="en-US" sz="2000" spc="-1" strike="noStrike">
                <a:solidFill>
                  <a:srgbClr val="ffffff"/>
                </a:solidFill>
                <a:latin typeface="Times New Roman"/>
              </a:rPr>
              <a:t>http://www.cummingsstudyguides.net/Guides3/pyramus.html&gt;</a:t>
            </a:r>
            <a:endParaRPr b="0" lang="en-US" sz="2000" spc="-1" strike="noStrike">
              <a:solidFill>
                <a:srgbClr val="ffffff"/>
              </a:solidFill>
              <a:latin typeface="Times New Roman"/>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
          <p:cNvSpPr/>
          <p:nvPr/>
        </p:nvSpPr>
        <p:spPr>
          <a:xfrm>
            <a:off x="2819520" y="4419720"/>
            <a:ext cx="2971800" cy="1981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PlaceHolder 1"/>
          <p:cNvSpPr>
            <a:spLocks noGrp="1"/>
          </p:cNvSpPr>
          <p:nvPr>
            <p:ph/>
          </p:nvPr>
        </p:nvSpPr>
        <p:spPr>
          <a:xfrm>
            <a:off x="380880" y="761760"/>
            <a:ext cx="8229600" cy="4530600"/>
          </a:xfrm>
          <a:prstGeom prst="rect">
            <a:avLst/>
          </a:prstGeom>
          <a:noFill/>
          <a:ln w="0">
            <a:noFill/>
          </a:ln>
        </p:spPr>
        <p:txBody>
          <a:bodyPr lIns="90000" rIns="90000" tIns="46800" bIns="46800" anchor="t">
            <a:normAutofit/>
          </a:bodyPr>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tagonist- Pyramus &amp; Thisbe’s parents</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rotagonist- Pyramus &amp; Thisbe</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flict-Man vs. Self     Man vs. Society</a:t>
            </a:r>
            <a:endParaRPr b="0" lang="en-US" sz="3600" spc="-1" strike="noStrike">
              <a:solidFill>
                <a:srgbClr val="ffffff"/>
              </a:solidFill>
              <a:latin typeface="Times New Roman"/>
            </a:endParaRPr>
          </a:p>
        </p:txBody>
      </p:sp>
      <p:pic>
        <p:nvPicPr>
          <p:cNvPr id="141" name="" descr=""/>
          <p:cNvPicPr/>
          <p:nvPr/>
        </p:nvPicPr>
        <p:blipFill>
          <a:blip r:embed="rId1"/>
          <a:stretch/>
        </p:blipFill>
        <p:spPr>
          <a:xfrm>
            <a:off x="2895480" y="4343400"/>
            <a:ext cx="2971800" cy="1981080"/>
          </a:xfrm>
          <a:prstGeom prst="rect">
            <a:avLst/>
          </a:prstGeom>
          <a:ln w="9360">
            <a:solidFill>
              <a:srgbClr val="000000"/>
            </a:solidFill>
            <a:miter/>
          </a:ln>
        </p:spPr>
      </p:pic>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Vocabulary</a:t>
            </a:r>
            <a:endParaRPr b="1" lang="en-US" sz="4400" spc="-1" strike="noStrike">
              <a:solidFill>
                <a:srgbClr val="feec94"/>
              </a:solidFill>
              <a:latin typeface="Times New Roman"/>
            </a:endParaRPr>
          </a:p>
        </p:txBody>
      </p:sp>
      <p:sp>
        <p:nvSpPr>
          <p:cNvPr id="143" name="PlaceHolder 2"/>
          <p:cNvSpPr>
            <a:spLocks noGrp="1"/>
          </p:cNvSpPr>
          <p:nvPr>
            <p:ph/>
          </p:nvPr>
        </p:nvSpPr>
        <p:spPr>
          <a:xfrm>
            <a:off x="457200" y="1599840"/>
            <a:ext cx="8305920" cy="3962520"/>
          </a:xfrm>
          <a:prstGeom prst="rect">
            <a:avLst/>
          </a:prstGeom>
          <a:noFill/>
          <a:ln w="0">
            <a:noFill/>
          </a:ln>
        </p:spPr>
        <p:txBody>
          <a:bodyPr lIns="90000" rIns="90000" tIns="46800" bIns="46800" anchor="t">
            <a:normAutofit/>
          </a:bodyPr>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ament-v. Express deep sorrow; mourn (le ment’)</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evitable-adj. unavoidable; certain (in ev I te bel)</a:t>
            </a:r>
            <a:endParaRPr b="0" lang="en-US" sz="3600" spc="-1" strike="noStrike">
              <a:solidFill>
                <a:srgbClr val="ffffff"/>
              </a:solidFill>
              <a:latin typeface="Times New Roman"/>
            </a:endParaRPr>
          </a:p>
        </p:txBody>
      </p:sp>
      <p:sp>
        <p:nvSpPr>
          <p:cNvPr id="144" name=""/>
          <p:cNvSpPr txBox="1"/>
          <p:nvPr/>
        </p:nvSpPr>
        <p:spPr>
          <a:xfrm>
            <a:off x="4800600" y="5029200"/>
            <a:ext cx="3429000" cy="1332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4d0808"/>
                    </a:gs>
                    <a:gs pos="50000">
                      <a:srgbClr val="fff200"/>
                    </a:gs>
                    <a:gs pos="100000">
                      <a:srgbClr val="4d0808"/>
                    </a:gs>
                  </a:gsLst>
                  <a:lin ang="5400000"/>
                </a:gradFill>
                <a:latin typeface="Impact"/>
              </a:rPr>
              <a:t>By: Hutch Boykin</a:t>
            </a:r>
            <a:endParaRPr b="0" lang="en-US" sz="1800" spc="1" strike="noStrike">
              <a:ln w="9360">
                <a:solidFill>
                  <a:srgbClr val="000000"/>
                </a:solidFill>
                <a:miter/>
              </a:ln>
              <a:gradFill rotWithShape="0">
                <a:gsLst>
                  <a:gs pos="0">
                    <a:srgbClr val="4d0808"/>
                  </a:gs>
                  <a:gs pos="50000">
                    <a:srgbClr val="fff200"/>
                  </a:gs>
                  <a:gs pos="100000">
                    <a:srgbClr val="4d0808"/>
                  </a:gs>
                </a:gsLst>
                <a:lin ang="5400000"/>
              </a:gradFill>
              <a:latin typeface="Impact"/>
              <a:ea typeface="Impact"/>
            </a:endParaRPr>
          </a:p>
        </p:txBody>
      </p:sp>
    </p:spTree>
  </p:cSld>
  <p:transition>
    <p:comb dir="horz"/>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path" presetID="0">
                                  <p:stCondLst>
                                    <p:cond delay="0"/>
                                  </p:stCondLst>
                                  <p:childTnLst>
                                    <p:animMotion origin="layout" path="M -0.23489 -0.0104 C -0.22014 -0.00901 -0.21528 -0.01132 -0.20503 -0.00208 C -0.20069 0.00625 -0.19722 0.01434 -0.19201 0.02128 C -0.18941 0.03191 -0.1868 0.04232 -0.1842 0.05295 C -0.18368 0.0548 -0.18212 0.06544 -0.1809 0.06775 C -0.1743 0.07954 -0.175 0.07769 -0.16666 0.08047 C -0.15642 0.09064 -0.16458 0.08486 -0.1493 0.08879 C -0.13819 0.0918 -0.12969 0.09735 -0.11753 0.09943 C -0.09948 0.09873 -0.08125 0.10197 -0.06354 0.09735 C -0.06024 0.09642 -0.06285 0.08763 -0.06041 0.08463 C -0.05243 0.07446 -0.04566 0.0548 -0.03646 0.05087 C -0.03316 0.04347 -0.02847 0.04 -0.02378 0.03399 C -0.02135 0.02405 -0.01632 0.01758 -0.01267 0.00856 C -0.01319 -0.0141 -0.01146 -0.03699 -0.01423 -0.05919 C -0.01475 -0.06404 -0.01962 -0.06612 -0.02222 -0.06959 C -0.02291 -0.07052 -0.02778 -0.07745 -0.02864 -0.07815 C -0.0316 -0.08 -0.03819 -0.08231 -0.03819 -0.08231 C -0.06041 -0.07976 -0.05104 -0.08277 -0.06666 -0.07606 C -0.07187 -0.07375 -0.07396 -0.06774 -0.07934 -0.06543 C -0.08576 -0.05687 -0.09132 -0.04624 -0.1 -0.04231 C -0.11094 -0.01965 -0.1401 -0.03699 -0.15712 -0.04231 C -0.16041 -0.04323 -0.16354 -0.04508 -0.16666 -0.04647 C -0.16823 -0.04716 -0.17153 -0.04855 -0.17153 -0.04855 C -0.18316 -0.05895 -0.19045 -0.07537 -0.2 -0.08878 C -0.20104 -0.09294 -0.20225 -0.09734 -0.2033 -0.1015 C -0.20538 -0.11028 -0.20156 -0.12208 -0.20642 -0.12878 C -0.21302 -0.1378 -0.21528 -0.14843 -0.22066 -0.15838 C -0.23385 -0.18265 -0.24913 -0.20554 -0.26354 -0.2282 C -0.27587 -0.24739 -0.28021 -0.25549 -0.29531 -0.26843 C -0.30278 -0.26774 -0.31024 -0.26797 -0.31753 -0.26635 C -0.32031 -0.26566 -0.32257 -0.26312 -0.32535 -0.26196 C -0.34392 -0.25433 -0.3618 -0.25017 -0.3809 -0.24716 C -0.39514 -0.24786 -0.40972 -0.24601 -0.42378 -0.24948 C -0.42587 -0.24994 -0.425 -0.25502 -0.42535 -0.2578 C -0.42656 -0.26566 -0.42673 -0.27352 -0.42864 -0.28115 C -0.42969 -0.28531 -0.43073 -0.28971 -0.43177 -0.29387 C -0.43229 -0.29595 -0.43333 -0.30011 -0.43333 -0.30011 C -0.43524 -0.32485 -0.43819 -0.34913 -0.43975 -0.3741 C -0.43923 -0.40716 -0.43958 -0.44046 -0.43819 -0.47352 C -0.43715 -0.49757 -0.42535 -0.52485 -0.41753 -0.54543 C -0.41319 -0.55699 -0.41094 -0.56716 -0.4033 -0.57502 C -0.39514 -0.5926 -0.38906 -0.59098 -0.37778 -0.60231 C -0.37604 -0.60416 -0.375 -0.60716 -0.37309 -0.60878 C -0.37118 -0.6104 -0.36337 -0.61364 -0.36041 -0.61502 C -0.35243 -0.62219 -0.3441 -0.62265 -0.33489 -0.62566 C -0.30017 -0.62265 -0.29305 -0.62289 -0.26666 -0.61294 C -0.25503 -0.60393 -0.2441 -0.59421 -0.23333 -0.58335 C -0.23177 -0.57988 -0.23055 -0.57595 -0.22864 -0.57271 C -0.22725 -0.5704 -0.22517 -0.56901 -0.22378 -0.56647 C -0.22239 -0.56393 -0.22187 -0.56069 -0.22066 -0.55791 C -0.21927 -0.55491 -0.21753 -0.55237 -0.21597 -0.54959 C -0.21267 -0.53294 -0.20607 -0.51815 -0.2033 -0.50104 C -0.20364 -0.47768 -0.20399 -0.45456 -0.20503 -0.43121 C -0.20607 -0.40739 -0.21823 -0.39028 -0.22535 -0.36994 C -0.22969 -0.35745 -0.23055 -0.35491 -0.23333 -0.34242 C -0.23559 -0.33248 -0.23975 -0.31283 -0.23975 -0.31283 C -0.23871 -0.29595 -0.23871 -0.27861 -0.23646 -0.26196 C -0.23576 -0.25687 -0.22691 -0.24763 -0.22378 -0.24716 C -0.20295 -0.24462 -0.1816 -0.24578 -0.16041 -0.24508 C -0.13333 -0.24716 -0.10607 -0.24578 -0.07934 -0.25156 C -0.06979 -0.25364 -0.06146 -0.26265 -0.05243 -0.26843 C -0.01475 -0.29248 -0.00364 -0.3267 0.0158 -0.37202 C 0.03056 -0.40647 0.04792 -0.43861 0.06181 -0.47352 C 0.06893 -0.49109 0.07118 -0.5089 0.07934 -0.52624 C 0.08455 -0.55398 0.09219 -0.58034 0.09514 -0.60878 C 0.09462 -0.62843 0.09497 -0.64832 0.09358 -0.66797 C 0.09236 -0.68485 0.06285 -0.70312 0.05243 -0.70589 C 0.04045 -0.71676 0.02014 -0.71861 0.00625 -0.72069 C -0.02986 -0.71953 -0.05764 -0.71699 -0.09201 -0.71445 C -0.12587 -0.7082 -0.1401 -0.71098 -0.1842 -0.71237 C -0.23732 -0.72624 -0.29201 -0.73641 -0.346 -0.74196 C -0.35798 -0.74728 -0.37031 -0.7482 -0.38264 -0.7526 C -0.41458 -0.74751 -0.43403 -0.72254 -0.45712 -0.69549 C -0.46285 -0.68878 -0.47048 -0.68508 -0.47621 -0.67861 C -0.48073 -0.67352 -0.48472 -0.66728 -0.48889 -0.6615 C -0.4908 -0.65895 -0.4934 -0.65757 -0.49531 -0.65526 C -0.50712 -0.64092 -0.51736 -0.62543 -0.52708 -0.60878 C -0.53021 -0.5956 -0.53958 -0.5852 -0.54444 -0.57271 C -0.55052 -0.55699 -0.55764 -0.54196 -0.56354 -0.52624 C -0.56875 -0.51237 -0.57031 -0.49664 -0.57309 -0.48185 C -0.57673 -0.4 -0.60208 -0.29456 -0.56823 -0.2282 C -0.56597 -0.21919 -0.56215 -0.21364 -0.55712 -0.20716 C -0.55364 -0.18843 -0.53576 -0.17595 -0.52378 -0.16693 C -0.49045 -0.14196 -0.45816 -0.11768 -0.4191 -0.11398 C -0.39896 -0.11213 -0.35868 -0.10982 -0.35868 -0.10982 C -0.27725 -0.11306 -0.2684 -0.10474 -0.21111 -0.13109 C -0.20225 -0.14057 -0.19323 -0.14936 -0.1842 -0.15838 C -0.17413 -0.16855 -0.18541 -0.16208 -0.17153 -0.17317 C -0.15712 -0.18474 -0.1401 -0.19375 -0.12378 -0.19861 C -0.1085 -0.20323 -0.09323 -0.20739 -0.07778 -0.21132 C -0.07361 -0.21248 -0.0651 -0.21549 -0.0651 -0.21549 C -0.05868 -0.21479 -0.05208 -0.21572 -0.046 -0.21341 C -0.03507 -0.20948 -0.02778 -0.19537 -0.0191 -0.18589 C -0.00833 -0.1741 0.00209 -0.16208 0.01268 -0.15005 C 0.0184 -0.14358 0.02552 -0.13895 0.03021 -0.13109 C 0.03299 -0.12624 0.03802 -0.1163 0.03802 -0.1163 C 0.04601 -0.08346 0.04306 -0.05456 0.02847 -0.02959 C 0.02622 -0.01988 0.02136 -0.01872 0.0158 -0.01271 C 0.00608 -0.00231 -0.00364 0.00209 -0.01597 0.0044 C -0.0375 0.01388 -0.06007 0.01665 -0.08264 0.0192 C -0.10746 0.01781 -0.13229 0.01665 -0.15712 0.0148 C -0.17482 0.01342 -0.19201 0.0037 -0.20955 -5.20231E-007 C -0.21962 -0.00647 -0.22969 -0.01248 -0.23975 -0.01895 C -0.24236 -0.03329 -0.2401 -0.04554 -0.23646 -0.05919 C -0.23489 -0.06497 -0.22864 -0.07398 -0.22864 -0.07398 C -0.22639 -0.08277 -0.21979 -0.08948 -0.21423 -0.09502 C -0.19965 -0.10982 -0.18663 -0.12832 -0.16823 -0.13317 C -0.16007 -0.14057 -0.14809 -0.1415 -0.13819 -0.14358 C -0.1217 -0.14289 -0.10521 -0.14335 -0.08889 -0.1415 C -0.08611 -0.14127 -0.07153 -0.12878 -0.06823 -0.1267 C -0.05642 -0.11861 -0.04722 -0.1089 -0.03646 -0.09919 C -0.0316 -0.08948 -0.02621 -0.08254 -0.02222 -0.0719 C -0.01892 -0.0541 -0.04028 -0.03028 -0.0191 -0.01687 L -1.94444E-006 -5.20231E-007 E">
                                      <p:cBhvr>
                                        <p:cTn id="21" dur="2000" fill="hold"/>
                                        <p:tgtEl>
                                          <p:spTgt spid="14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15:06:31Z</dcterms:created>
  <dc:creator>dcsuser</dc:creator>
  <dc:description/>
  <dc:language>en-US</dc:language>
  <cp:lastModifiedBy>DCSUSER</cp:lastModifiedBy>
  <dcterms:modified xsi:type="dcterms:W3CDTF">2010-03-18T14:40:41Z</dcterms:modified>
  <cp:revision>16</cp:revision>
  <dc:subject/>
  <dc:title> </dc:title>
</cp:coreProperties>
</file>